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EDF-4984-4CBC-A4A3-7C7F3377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334-6746-49E8-9EBC-5852CD22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0E2-3377-4EE5-BAAE-2C6AA1B0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233-2DDA-4F2D-B49D-92444781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A2EE-6192-4189-ACA8-2BE8806A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1C10-CA29-46D5-86EC-C28B3F3F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7165-0351-4E5F-8E22-71570713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1A71-3A3D-4EC0-AD6A-E3BD2A7A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00B3-6518-4409-8BDF-4A48F92E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2B3C-7C55-4916-B5A9-8254C014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4F28-34DB-443B-B096-934FF87D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1AEC-9F89-45EC-969B-E43B665F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2A81-03C2-4546-B458-8E40143D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162C-DB0C-42AB-A7B0-1F43A02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B893-96FC-467B-90AB-E341666D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A0DC-67A8-4C46-8BD5-713018E0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D4B0-2AAF-4491-A1C5-E134285D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EF5-2EF2-4C37-81F0-F3C5A993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614-72FA-4936-A25A-A6D3F984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7AB-AD7A-436A-A676-FA4B4226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A9C-2E68-4A09-A555-1D277895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6BC-5706-4A44-84A8-770D5F08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DB7-3F5C-4A41-BA08-5226B024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D07-2632-4697-8E00-C4CE6F02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A1BD-233B-492E-B47E-156B60F4B2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5344-1C6C-41A4-9EAE-766FA89DD5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9475-5233-4042-B1C1-39411372A9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mic Sans MS"/>
              </a:rPr>
              <a:t>The National Training Reform Agen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Key aims of the Agenda are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mote a flexible and cohesive vocational education and train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balance the provision of broad education and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create a more highly skilled and adaptable work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crease the competitiveness and productivity of Australian industry through industry responsive reform of the vocational education and train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B4F0-8C88-4AA2-8A6F-E6269E7CF9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mmon languag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068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E159-CBB0-46D5-BCD4-73D9537A86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omic Sans MS"/>
              </a:rPr>
              <a:t>AQF Qualif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1" name="Object 0"/>
          <p:cNvGraphicFramePr/>
          <p:nvPr/>
        </p:nvGraphicFramePr>
        <p:xfrm>
          <a:off x="458640" y="1887480"/>
          <a:ext cx="8220240" cy="467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887480"/>
                    <a:ext cx="822024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4251-8784-4307-8A0C-D5D2754F57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Pathways Conce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67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EAFF-49AC-411E-9FEA-574784E006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ualification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2296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D71F-9A9C-4D89-B9F6-BE5AD18C5F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7375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mic Sans MS"/>
              </a:rPr>
              <a:t>What are the benefits of AQF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51055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A national fra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Recognition of different education and training pathw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Reflection of the changes in vocational education and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Object 4" descr=""/>
          <p:cNvPicPr/>
          <p:nvPr/>
        </p:nvPicPr>
        <p:blipFill>
          <a:blip r:embed="rId1"/>
          <a:stretch/>
        </p:blipFill>
        <p:spPr>
          <a:xfrm>
            <a:off x="6858000" y="2209680"/>
            <a:ext cx="9842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C0E6-B558-4F49-B61E-F55C65FAFB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mic Sans MS"/>
              </a:rPr>
              <a:t>National Framework for the recognition of trai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is means that courses and training programs offered anywhere in Australia can be part of a national system. Individuals undertaking these courses will have their skills recognised nationally. The framework allows for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ccreditation of cour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Recognition of training progra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Registration of providers to offer accredited courses and recognised training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9964-60C9-4E85-986D-DC3591FC63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Accreditation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1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dentify Industry, Enterprise or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Community Training n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2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3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ccess and Path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4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lexible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5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rticulation and Credit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6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Customisation of Cour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7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8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going Monitoring and E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F740-A9C1-4BBE-886F-6E48187C21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QF Advisory Bo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52E3-AB43-49A3-B273-5C5903BBB2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The NTRA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6019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Reforms at the time were driven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demands for training and skills development at all levels of the work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development of a training market that increased choice and improved 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n emphasis on demonstrated competence rather than on length of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3115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008C-317E-433D-9A6C-C15EDD5604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omic Sans MS"/>
              </a:rPr>
              <a:t>The NTRA continued…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greater flexibility in the delivery of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evelopment of nationally consistent training  standards and credent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mproved access to training for disadvantaged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mproved transferability and         articulation of courses between 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Object 5" descr=""/>
          <p:cNvPicPr/>
          <p:nvPr/>
        </p:nvPicPr>
        <p:blipFill>
          <a:blip r:embed="rId1"/>
          <a:stretch/>
        </p:blipFill>
        <p:spPr>
          <a:xfrm>
            <a:off x="7238880" y="3733920"/>
            <a:ext cx="15242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574D-56FF-41C2-A595-E8FF86185D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4012920" cy="33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omic Sans MS"/>
              </a:rPr>
              <a:t>International Competitive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omic Sans MS"/>
              </a:rPr>
              <a:t>Industry Restructu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omic Sans MS"/>
              </a:rPr>
              <a:t>Workplace Refor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Object 4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35DC-B70C-4769-B3BD-1AF1FEC10A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Workplace Reform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articipative and team based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greater delegation of auth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mphasis on efficiency and produ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xamples of best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evelopment of career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vailability of individuals’ learning opport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customer-focused and response to changing national and international marketing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48E3-0A66-498F-AF93-FFECA6B6C7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arge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etency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624120" cy="4390920"/>
          </a:xfrm>
          <a:prstGeom prst="rect">
            <a:avLst/>
          </a:prstGeom>
          <a:ln w="0">
            <a:noFill/>
          </a:ln>
        </p:spPr>
      </p:pic>
      <p:sp>
        <p:nvSpPr>
          <p:cNvPr id="105" name="Line 4"/>
          <p:cNvSpPr/>
          <p:nvPr/>
        </p:nvSpPr>
        <p:spPr>
          <a:xfrm>
            <a:off x="2438280" y="10666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6307-2DE0-4979-8860-09994D44B0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Competency Standar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omic Sans MS"/>
              </a:rPr>
              <a:t>The specification of the knowledge and skill and application of that knowledge and skill across industries or within an industry to the standard of performance required in employmen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F9CD-699B-4952-B5CF-A5477727D3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Comic Sans MS"/>
              </a:rPr>
              <a:t>Key competenci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organising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planning and organisi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working with others in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using mathematical idea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solving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using technolo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3A4D-3863-40D9-956A-C8633BEB40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mic Sans MS"/>
              </a:rPr>
              <a:t>The Australian Qualifications Framework (AQF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The AQF covers qualifications issued by the secondary schools sector, vocational education and training providers (including TAFE and other registered providers) and higher education institutions (mainly univers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Object 4" descr=""/>
          <p:cNvPicPr/>
          <p:nvPr/>
        </p:nvPicPr>
        <p:blipFill>
          <a:blip r:embed="rId1"/>
          <a:stretch/>
        </p:blipFill>
        <p:spPr>
          <a:xfrm>
            <a:off x="6781680" y="3276720"/>
            <a:ext cx="1981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7T03:27:23Z</dcterms:created>
  <dc:creator>Mr &amp; Mrs McLeod</dc:creator>
  <dc:description/>
  <dc:language>en-US</dc:language>
  <cp:lastModifiedBy>John</cp:lastModifiedBy>
  <cp:lastPrinted>1999-06-30T04:56:07Z</cp:lastPrinted>
  <dcterms:modified xsi:type="dcterms:W3CDTF">2009-08-03T09:06:43Z</dcterms:modified>
  <cp:revision>31</cp:revision>
  <dc:subject/>
  <dc:title>The National Training Reform Agenda</dc:title>
</cp:coreProperties>
</file>